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908F0-9FA6-471B-90AE-4D87030ED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6E1F7-836F-4412-812B-67C69FC81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250D8-D335-4D15-8CB3-B6921EED1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9D377-0387-4E05-8410-DA662F97B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0591B-2B51-4443-8F1D-5554D4F0D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F4D9F-F1CA-4DC0-9F21-47A6E5462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26544-1F96-47C9-8D96-8C46F58B0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513ED-3DB8-4E9F-A41A-1541F5B6E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4D45C-26AA-40BD-88E2-3B13B6631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91131-7B41-4686-B648-8DEE5161A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94307-644C-4BB6-810D-98C883AC0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F9AC8-B89F-4551-A67E-74463ED5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3656F-7686-453F-872D-C0078B0DE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4C13F-4E6A-42A3-8E72-1118B151E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42E07-89B7-4708-A6D9-75E4A4C5F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7A779-CE20-4B71-9BF1-92CD89DEE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3F25E-D62E-4930-9FF2-58D5E1A0D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CA813-A904-4CD4-85D0-1C510A642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F8E42-46F3-43FA-9FD6-4A8727E94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8E3EC-CD6D-4222-8614-82FCDEEF1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C71F8-6964-4FC9-A437-E18C15191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BF22-3F46-4D74-AD3F-EECE60BE0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0B7AE-1F96-4BFF-85D8-840C58DA5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623C4-3589-40B1-B07B-C296309FE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7175-ED38-4A65-B669-850C1F8F0A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1143-B24C-434A-9B17-80078F4267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2.bp.blogspot.com/_DRLOhW9UfIU/TAJ4ONsRKpI/AAAAAAAAED0/bO-DWHM-D1I/s1600/chris%2Bdaughtry.jpg&amp;imgrefurl=http://dantespeaks.blogspot.com/2010/05/how-idols-are-doing.html&amp;usg=__dlnPCBvNj0SfQPSCfHWzhMuXmiU=&amp;h=461&amp;w=364&amp;sz=33&amp;hl=en&amp;start=16&amp;zoom=1&amp;um=1&amp;itbs=1&amp;tbnid=V3zOY9JZGdtTnM:&amp;tbnh=128&amp;tbnw=101&amp;prev=/images%3Fq%3Dchris%2Bdaughtry%26um%3D1%26hl%3Den%26safe%3Dactive%26tbs%3Disch:1"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shupload.skinconsortium.com/1243935880/creed.png&amp;imgrefurl=http://www.cproskinning.com/music-news/creed-reunites-for-a-new-album/&amp;usg=__RGxsXpZMDkImRgdLSXlNUDC8zUk=&amp;h=468&amp;w=546&amp;sz=325&amp;hl=en&amp;start=8&amp;zoom=1&amp;itbs=1&amp;tbnid=6MqPcUAJhk2g_M:&amp;tbnh=114&amp;tbnw=133&amp;prev=/images%3Fq%3Dcreed%2Bband%26hl%3Den%26safe%3Dactive%26sa%3DG%26gbv%3D2%26tbs%3Disch: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filer.livinginperu.com/isabel/metallica_enlima.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oogle.com/images?um=1&amp;hl=en&amp;safe=active&amp;tbs=isch:1&amp;aq=f&amp;aqi=g10&amp;oq=&amp;gs_rfai=&amp;q=chris%20daughtry" TargetMode="External"/><Relationship Id="rId2" Type="http://schemas.openxmlformats.org/officeDocument/2006/relationships/hyperlink" Target="http://www.livinginperu.com/news/11141" TargetMode="External"/><Relationship Id="rId3" Type="http://schemas.openxmlformats.org/officeDocument/2006/relationships/hyperlink" Target="http://www.live4ever.uk.com/news/wp-content/uploads/2010/10/aerosmith.jpg" TargetMode="External"/><Relationship Id="rId4" Type="http://schemas.openxmlformats.org/officeDocument/2006/relationships/hyperlink" Target="http://www.sliceofscifi.com/wp-content/uploads/2010/11/the_beatles3.jpg"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37160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b7"/>
                </a:solidFill>
                <a:latin typeface="Arial Black"/>
              </a:rPr>
              <a:t>Music Influences</a:t>
            </a:r>
            <a:endParaRPr b="1" lang="en-US" sz="8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ari Dal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ris Duaghtry</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5120"/>
            <a:ext cx="5488200" cy="41623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is Duaghtry was on the 5th season of American idol, even though he did not win, he and his band, Duaghtry, have become nationally know for their rock music. Like the Rolling Stones said " Homeboy likes to rock." Chris Duaghtry in know for his vocals and lead guitar. He grew up in North Carolina. When he was young he listened to mainly rock music. Chris Duaghtry was influenced by Creed along with many other rock and hard rock band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myplay.com/audio_player/myplay/5657/476430/476444?allowBrowsing=1</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2" name="" descr="">
            <a:hlinkClick r:id="rId1"/>
          </p:cNvPr>
          <p:cNvPicPr/>
          <p:nvPr/>
        </p:nvPicPr>
        <p:blipFill>
          <a:blip r:embed="rId2"/>
          <a:stretch/>
        </p:blipFill>
        <p:spPr>
          <a:xfrm>
            <a:off x="6324480" y="2133720"/>
            <a:ext cx="25243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reed</a:t>
            </a:r>
            <a:endParaRPr b="1" lang="en-US" sz="4400" spc="-1" strike="noStrike">
              <a:solidFill>
                <a:srgbClr val="ffffb7"/>
              </a:solidFill>
              <a:latin typeface="Arial Black"/>
            </a:endParaRPr>
          </a:p>
        </p:txBody>
      </p:sp>
      <p:sp>
        <p:nvSpPr>
          <p:cNvPr id="104" name="PlaceHolder 2"/>
          <p:cNvSpPr>
            <a:spLocks noGrp="1"/>
          </p:cNvSpPr>
          <p:nvPr>
            <p:ph/>
          </p:nvPr>
        </p:nvSpPr>
        <p:spPr>
          <a:xfrm>
            <a:off x="3733560" y="1066680"/>
            <a:ext cx="4800600" cy="5486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ed, was a grunge rock band in the 90’s, they were the top selling rock band of the decades.  Some people however did not like their music and thought  they were some new kind of alternative-style Christian band. After releasing three multi-platinum, the band split in 2004. Since then they have all started solo careers, though they did get together for a concert in 2009. There is lots to be said about Creed and there music, as Scott Phillips the drum player said “ I this we’re a band who’ll be around in 10 years time, and people will talk about our songs and not about our escapad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listen.grooveshark.com/#/search/songs/?query=cre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 descr="">
            <a:hlinkClick r:id="rId1"/>
          </p:cNvPr>
          <p:cNvPicPr/>
          <p:nvPr/>
        </p:nvPicPr>
        <p:blipFill>
          <a:blip r:embed="rId2"/>
          <a:stretch/>
        </p:blipFill>
        <p:spPr>
          <a:xfrm>
            <a:off x="304920" y="1523880"/>
            <a:ext cx="3124080" cy="2678400"/>
          </a:xfrm>
          <a:prstGeom prst="rect">
            <a:avLst/>
          </a:prstGeom>
          <a:ln w="0">
            <a:noFill/>
          </a:ln>
        </p:spPr>
      </p:pic>
      <p:sp>
        <p:nvSpPr>
          <p:cNvPr id="106" name=""/>
          <p:cNvSpPr/>
          <p:nvPr/>
        </p:nvSpPr>
        <p:spPr>
          <a:xfrm>
            <a:off x="1066680" y="5105520"/>
            <a:ext cx="2362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an Marshall, Scott Phillips, Scott Stapp, and Mark Tremon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941200" y="244440"/>
            <a:ext cx="590076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etallica</a:t>
            </a:r>
            <a:endParaRPr b="1" lang="en-US" sz="4400" spc="-1" strike="noStrike">
              <a:solidFill>
                <a:srgbClr val="ffffb7"/>
              </a:solidFill>
              <a:latin typeface="Arial Black"/>
            </a:endParaRPr>
          </a:p>
        </p:txBody>
      </p:sp>
      <p:sp>
        <p:nvSpPr>
          <p:cNvPr id="108" name="PlaceHolder 2"/>
          <p:cNvSpPr>
            <a:spLocks noGrp="1"/>
          </p:cNvSpPr>
          <p:nvPr>
            <p:ph/>
          </p:nvPr>
        </p:nvSpPr>
        <p:spPr>
          <a:xfrm>
            <a:off x="457200" y="1371240"/>
            <a:ext cx="4038480" cy="4876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allica, was a heavy metal band in the 80’s, they were the most influential band of the time. The band is said to be the ones to bring heavy metal back in to the spot light. They were known for there style of metal called thrash metal. Metallica would turn the volume up and go fast to enhance their intricately structured music, by doing so Creed had stared something new in thrash metal. After years of playing thrash metal they continued to change heavy metal with every new song they wrote. As Jason Newsted from Rolling Stones said “ Metallica is going to be one of those bands you look back on in the year 2008, that people will still listen to the way I still listen to Zeppelin and Sabbath albu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listen.grooveshark.com/#/search/songs/?query=metallic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9" name="" descr="See full size image">
            <a:hlinkClick r:id="rId1"/>
          </p:cNvPr>
          <p:cNvPicPr/>
          <p:nvPr/>
        </p:nvPicPr>
        <p:blipFill>
          <a:blip r:embed="rId2"/>
          <a:stretch/>
        </p:blipFill>
        <p:spPr>
          <a:xfrm>
            <a:off x="4648320" y="1447920"/>
            <a:ext cx="3828960" cy="2889000"/>
          </a:xfrm>
          <a:prstGeom prst="rect">
            <a:avLst/>
          </a:prstGeom>
          <a:ln w="0">
            <a:noFill/>
          </a:ln>
        </p:spPr>
      </p:pic>
      <p:sp>
        <p:nvSpPr>
          <p:cNvPr id="110" name=""/>
          <p:cNvSpPr/>
          <p:nvPr/>
        </p:nvSpPr>
        <p:spPr>
          <a:xfrm>
            <a:off x="5410080" y="5029200"/>
            <a:ext cx="3353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rk Hammet, James Hetfield, Jason Newsted, Lars Ulrich, Cliff Burton, Dave Mustaine, Robert Trujillo,and Ron McGovne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510552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erosmith</a:t>
            </a:r>
            <a:endParaRPr b="1" lang="en-US" sz="4400" spc="-1" strike="noStrike">
              <a:solidFill>
                <a:srgbClr val="ffffb7"/>
              </a:solidFill>
              <a:latin typeface="Arial Black"/>
            </a:endParaRPr>
          </a:p>
        </p:txBody>
      </p:sp>
      <p:sp>
        <p:nvSpPr>
          <p:cNvPr id="112" name="PlaceHolder 2"/>
          <p:cNvSpPr>
            <a:spLocks noGrp="1"/>
          </p:cNvSpPr>
          <p:nvPr>
            <p:ph/>
          </p:nvPr>
        </p:nvSpPr>
        <p:spPr>
          <a:xfrm>
            <a:off x="3962520" y="1066320"/>
            <a:ext cx="4876560" cy="5334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smith, was the most popular hard rock band in the 70’s. They also set the stage for the hard rock and hard metal bands for the next two decades. Aerosmith was popular because of there ability to put ballads of piano and string instruments into their rock music. However their fame didn’t last long, the band fell because of the use of drugs and alcohol. After a few years of struggling with that, Aerosmith had on of the biggest comebacks in rock history, with their new albums selling better then before. One of the most famous quotes every said by the band was “ Falling in love is so hard on the kne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listen.grooveshark.com/#/search/songs/?query=areosmit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3" name="" descr=""/>
          <p:cNvPicPr/>
          <p:nvPr/>
        </p:nvPicPr>
        <p:blipFill>
          <a:blip r:embed="rId1"/>
          <a:stretch/>
        </p:blipFill>
        <p:spPr>
          <a:xfrm>
            <a:off x="304920" y="1523880"/>
            <a:ext cx="3809880" cy="3086280"/>
          </a:xfrm>
          <a:prstGeom prst="rect">
            <a:avLst/>
          </a:prstGeom>
          <a:ln w="0">
            <a:noFill/>
          </a:ln>
        </p:spPr>
      </p:pic>
      <p:sp>
        <p:nvSpPr>
          <p:cNvPr id="114" name=""/>
          <p:cNvSpPr/>
          <p:nvPr/>
        </p:nvSpPr>
        <p:spPr>
          <a:xfrm>
            <a:off x="457200" y="510552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 Hamilton, Joe Perry, Joey Kramer, Steven Tyler, Brad Whitford, and Jimmy Cresp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Beatles</a:t>
            </a:r>
            <a:endParaRPr b="1" lang="en-US" sz="4400" spc="-1" strike="noStrike">
              <a:solidFill>
                <a:srgbClr val="ffffb7"/>
              </a:solidFill>
              <a:latin typeface="Arial Black"/>
            </a:endParaRPr>
          </a:p>
        </p:txBody>
      </p:sp>
      <p:sp>
        <p:nvSpPr>
          <p:cNvPr id="116" name="PlaceHolder 2"/>
          <p:cNvSpPr>
            <a:spLocks noGrp="1"/>
          </p:cNvSpPr>
          <p:nvPr>
            <p:ph/>
          </p:nvPr>
        </p:nvSpPr>
        <p:spPr>
          <a:xfrm>
            <a:off x="761760" y="1295280"/>
            <a:ext cx="419076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tles, was a rock band in the 60’s, they were the most influential bands of the time and still are. Even after they broke up in 1970 their music has never not been popular. The Beatles were best at what they did and really knew how to pull the audience into the performance. Ringo Starr once said “ We thought is we lasted two or three years that would be fantastic.”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
          <p:cNvSpPr/>
          <p:nvPr/>
        </p:nvSpPr>
        <p:spPr>
          <a:xfrm>
            <a:off x="5943600" y="518148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Harrison, John Lennon, Paul McCartney, and Ringo Starr</a:t>
            </a:r>
            <a:endParaRPr b="0" lang="en-US" sz="1800" spc="-1" strike="noStrike">
              <a:solidFill>
                <a:srgbClr val="ffffff"/>
              </a:solidFill>
              <a:latin typeface="Arial"/>
            </a:endParaRPr>
          </a:p>
        </p:txBody>
      </p:sp>
      <p:pic>
        <p:nvPicPr>
          <p:cNvPr id="118" name="" descr=""/>
          <p:cNvPicPr/>
          <p:nvPr/>
        </p:nvPicPr>
        <p:blipFill>
          <a:blip r:embed="rId1"/>
          <a:stretch/>
        </p:blipFill>
        <p:spPr>
          <a:xfrm>
            <a:off x="4876920" y="1371600"/>
            <a:ext cx="3886200" cy="321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urces</a:t>
            </a:r>
            <a:endParaRPr b="1" lang="en-US" sz="4400" spc="-1" strike="noStrike">
              <a:solidFill>
                <a:srgbClr val="ffffb7"/>
              </a:solidFill>
              <a:latin typeface="Arial Black"/>
            </a:endParaRPr>
          </a:p>
        </p:txBody>
      </p:sp>
      <p:sp>
        <p:nvSpPr>
          <p:cNvPr id="120" name="PlaceHolder 2"/>
          <p:cNvSpPr>
            <a:spLocks noGrp="1"/>
          </p:cNvSpPr>
          <p:nvPr>
            <p:ph/>
          </p:nvPr>
        </p:nvSpPr>
        <p:spPr>
          <a:xfrm>
            <a:off x="685440" y="1218960"/>
            <a:ext cx="8007480" cy="56386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ikipedia; chris daughtry</a:t>
            </a:r>
            <a:r>
              <a:rPr b="0" lang="en-US" sz="1200" spc="-1" strike="noStrike">
                <a:solidFill>
                  <a:srgbClr val="ffffff"/>
                </a:solidFill>
                <a:latin typeface="Arial"/>
              </a:rPr>
              <a:t>. (2010). Retrieved from http://en.wikipedia.org/wiki/Chris_Daughtr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dersen, E. (2007, March 21). </a:t>
            </a:r>
            <a:r>
              <a:rPr b="0" i="1" lang="en-US" sz="1200" spc="-1" strike="noStrike">
                <a:solidFill>
                  <a:srgbClr val="ffffff"/>
                </a:solidFill>
                <a:latin typeface="Arial"/>
              </a:rPr>
              <a:t>It's just the begining for chris daughtry</a:t>
            </a:r>
            <a:r>
              <a:rPr b="0" lang="en-US" sz="1200" spc="-1" strike="noStrike">
                <a:solidFill>
                  <a:srgbClr val="ffffff"/>
                </a:solidFill>
                <a:latin typeface="Arial"/>
              </a:rPr>
              <a:t>. Retrieved from http://www.usatoday.com/life/music/news/2007-03-20-chris-daughtry-main_N.htm </a:t>
            </a:r>
            <a:endParaRPr b="0" lang="en-US" sz="1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Zune; creed</a:t>
            </a:r>
            <a:r>
              <a:rPr b="0" lang="en-US" sz="1200" spc="-1" strike="noStrike">
                <a:solidFill>
                  <a:srgbClr val="ffffff"/>
                </a:solidFill>
                <a:latin typeface="Arial"/>
              </a:rPr>
              <a:t>. (n.d.). Retrieved from http://social.zune.net/artist/Creed?cache=tru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ikipedia; creed (band)</a:t>
            </a:r>
            <a:r>
              <a:rPr b="0" lang="en-US" sz="1200" spc="-1" strike="noStrike">
                <a:solidFill>
                  <a:srgbClr val="ffffff"/>
                </a:solidFill>
                <a:latin typeface="Arial"/>
              </a:rPr>
              <a:t>. (n.d.). Retrieved from http://en.wikipedia.org/wiki/Creed_(band) </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rierson, T. (n.d.). </a:t>
            </a:r>
            <a:r>
              <a:rPr b="0" i="1" lang="en-US" sz="1000" spc="-1" strike="noStrike">
                <a:solidFill>
                  <a:srgbClr val="ffffff"/>
                </a:solidFill>
                <a:latin typeface="Arial"/>
              </a:rPr>
              <a:t>About.com:rock music </a:t>
            </a:r>
            <a:r>
              <a:rPr b="0" lang="en-US" sz="1000" spc="-1" strike="noStrike">
                <a:solidFill>
                  <a:srgbClr val="ffffff"/>
                </a:solidFill>
                <a:latin typeface="Arial"/>
              </a:rPr>
              <a:t>. Retrieved from http://rock.about.com/od/creed/p/creed.htm</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2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rlewine, S. (n.d.). </a:t>
            </a:r>
            <a:r>
              <a:rPr b="0" i="1" lang="en-US" sz="1000" spc="-1" strike="noStrike">
                <a:solidFill>
                  <a:srgbClr val="ffffff"/>
                </a:solidFill>
                <a:latin typeface="Arial"/>
              </a:rPr>
              <a:t>Metallica</a:t>
            </a:r>
            <a:r>
              <a:rPr b="0" lang="en-US" sz="1000" spc="-1" strike="noStrike">
                <a:solidFill>
                  <a:srgbClr val="ffffff"/>
                </a:solidFill>
                <a:latin typeface="Arial"/>
              </a:rPr>
              <a:t>. Retrieved from http://www.allmusic.com/artist/metallica-p4906/biography </a:t>
            </a:r>
            <a:endParaRPr b="0" lang="en-US" sz="10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ngelfire</a:t>
            </a:r>
            <a:r>
              <a:rPr b="0" lang="en-US" sz="1000" spc="-1" strike="noStrike">
                <a:solidFill>
                  <a:srgbClr val="ffffff"/>
                </a:solidFill>
                <a:latin typeface="Arial"/>
              </a:rPr>
              <a:t>. (n.d.). Retrieved from http://www.angelfire.com/mn/metarchive/quotes.html</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2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Quotemountain.com</a:t>
            </a:r>
            <a:r>
              <a:rPr b="0" lang="en-US" sz="1000" spc="-1" strike="noStrike">
                <a:solidFill>
                  <a:srgbClr val="ffffff"/>
                </a:solidFill>
                <a:latin typeface="Arial"/>
              </a:rPr>
              <a:t>. (n.d.). Retrieved from http://www.quotemountain.com/famous_quote_author/aerosmith_famous_quotations </a:t>
            </a:r>
            <a:endParaRPr b="0"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ll music: the beatles</a:t>
            </a:r>
            <a:r>
              <a:rPr b="0" lang="en-US" sz="1000" spc="-1" strike="noStrike">
                <a:solidFill>
                  <a:srgbClr val="ffffff"/>
                </a:solidFill>
                <a:latin typeface="Arial"/>
              </a:rPr>
              <a:t>. (n.d.). Retrieved from http://www.allmusic.com/artist/the-beatles-p3644</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2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ngelfire</a:t>
            </a:r>
            <a:r>
              <a:rPr b="0" lang="en-US" sz="1000" spc="-1" strike="noStrike">
                <a:solidFill>
                  <a:srgbClr val="ffffff"/>
                </a:solidFill>
                <a:latin typeface="Arial"/>
              </a:rPr>
              <a:t>. (n.d.). Retrieved from http://www.angelfire.com/ny2/fabfour/quotes.html </a:t>
            </a:r>
            <a:endParaRPr b="0"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icture Sources </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ff66"/>
                </a:solidFill>
                <a:uFillTx/>
                <a:latin typeface="Arial"/>
                <a:hlinkClick r:id="rId1"/>
              </a:rPr>
              <a:t>http://www.google.com/images?um=1&amp;hl=en&amp;safe=active&amp;tbs=isch:1&amp;aq=f&amp;aqi=g10&amp;oq=&amp;gs_rfai=&amp;q=chris%20daughtry</a:t>
            </a:r>
            <a:endParaRPr b="0" lang="en-US" sz="14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ff66"/>
                </a:solidFill>
                <a:uFillTx/>
                <a:latin typeface="Arial"/>
                <a:hlinkClick r:id="rId2"/>
              </a:rPr>
              <a:t>http://www.livinginperu.com/news/11141</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ff66"/>
                </a:solidFill>
                <a:uFillTx/>
                <a:latin typeface="Arial"/>
                <a:hlinkClick r:id="rId3"/>
              </a:rPr>
              <a:t>http://www.live4ever.uk.com/news/wp-content/uploads/2010/10/aerosmith.jpg</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2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ff66"/>
                </a:solidFill>
                <a:uFillTx/>
                <a:latin typeface="Arial"/>
                <a:hlinkClick r:id="rId4"/>
              </a:rPr>
              <a:t>11/the_beatles3.j http://www.sliceofscifi.com/wp-content/uploads/2010/p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2T20:06:40Z</dcterms:created>
  <dc:creator>madalman3</dc:creator>
  <dc:description/>
  <dc:language>en-US</dc:language>
  <cp:lastModifiedBy>madalman3</cp:lastModifiedBy>
  <dcterms:modified xsi:type="dcterms:W3CDTF">2010-11-22T20:19:56Z</dcterms:modified>
  <cp:revision>29</cp:revision>
  <dc:subject/>
  <dc:title>Music Influences</dc:title>
</cp:coreProperties>
</file>